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62206"/>
        <c:axId val="20444886"/>
      </c:barChart>
      <c:catAx>
        <c:axId val="6286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44886"/>
        <c:crosses val="autoZero"/>
        <c:auto val="1"/>
        <c:lblAlgn val="ctr"/>
        <c:lblOffset val="100"/>
        <c:noMultiLvlLbl val="0"/>
      </c:catAx>
      <c:valAx>
        <c:axId val="20444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6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E93-D9F4-4889-9549-4D758BA2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764-A2E7-40D3-BEBB-80BFBE2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68F-D379-422F-8ADE-C4128DCF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140-529F-487E-929E-9AF04BEA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04B-B733-46DC-B9B0-D986ECD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BA9-8435-40C1-957B-F21AFDD0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C75-188E-4B20-B1E8-84031DAD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3B8-B822-4E73-BC39-AB3E47E2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C7A-1797-438B-B274-4F79C08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ED8-2E0D-497E-B6A6-B36DF70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825-16D4-417C-BB6E-A46EB88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73B-9FE1-4A90-BFE3-3E8D8C8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F087C-5AD0-46D1-A703-C544CA1E0F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