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58861"/>
        <c:axId val="85078410"/>
      </c:barChart>
      <c:catAx>
        <c:axId val="21358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78410"/>
        <c:crosses val="autoZero"/>
        <c:auto val="1"/>
        <c:lblAlgn val="ctr"/>
        <c:lblOffset val="100"/>
        <c:noMultiLvlLbl val="0"/>
      </c:catAx>
      <c:valAx>
        <c:axId val="85078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8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97D-0DA5-40C9-B214-D5BC1161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8E5-707C-4ACD-8668-DB5498E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F80-FEA5-4B1E-8E60-FC3A3B48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E91-65FD-4467-B2B6-36FF7C09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C96-B511-4F0C-AD48-77C337A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A74-C93F-4ABE-97FF-79D73619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35B-500E-438F-A0EE-1E03FA06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982-BC1A-4C1A-A353-C1B99E36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DF6-2E72-4C16-8437-665E688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C5D-5728-45DB-B38D-FD53AC1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94F-C55E-4F50-9734-C566B25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9B4-FDE6-4FD0-AF12-B90B795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60134-62AD-40FA-820C-B735DFC3C8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