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530291"/>
        <c:axId val="37007834"/>
      </c:barChart>
      <c:catAx>
        <c:axId val="515302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007834"/>
        <c:crosses val="autoZero"/>
        <c:auto val="1"/>
        <c:lblAlgn val="ctr"/>
        <c:lblOffset val="100"/>
        <c:noMultiLvlLbl val="0"/>
      </c:catAx>
      <c:valAx>
        <c:axId val="370078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5302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2340-0E88-4F47-A4FE-C09BAB7DC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054D-534E-4161-8A7B-2564538B1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C839-EA88-43E2-895F-4810148EF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C368-7C93-4EA4-8256-5E09FF990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E28F-AFFB-4D41-BBDA-BD6EB4697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9E22-25F4-4502-9596-BBD44853F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9A31-845A-442A-AE7E-768F32222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4AF1-B958-47E4-8DCC-D235F2407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67C8-FF15-4651-BFF9-9586E515B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E61C-C22C-46DF-871A-B2754C9C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D11F-F101-4272-B5A0-F1B509DAC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51D2-1709-4220-B325-54EDEAA7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9183B0-CB06-44CD-9FD8-7F1F14F24D8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