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896005"/>
        <c:axId val="45079074"/>
      </c:barChart>
      <c:catAx>
        <c:axId val="478960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079074"/>
        <c:crosses val="autoZero"/>
        <c:auto val="1"/>
        <c:lblAlgn val="ctr"/>
        <c:lblOffset val="100"/>
        <c:noMultiLvlLbl val="0"/>
      </c:catAx>
      <c:valAx>
        <c:axId val="450790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8960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F9E2-9B2C-4C6A-AA56-B39BC3BD9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BED8-14FE-4F18-BF42-16E9EAF4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BEA0-14EB-431D-90B5-56A15A0CA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A940-75CE-4451-994C-DD62F1E64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5A7F-AA61-4D55-A149-97A7641B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35E2-10F1-48C1-A57A-236520D0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B721-75EC-4AEA-A63A-FE2A72F8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C512-43DC-4764-A192-1A2ED587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BD9D-15B4-49DD-98CA-A9808C93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B89F-A8AB-41E1-94A8-7E65906E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43BD-4E14-4852-8C7B-DEF1ECFB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09C1-5208-455E-92E4-132BCD5D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2426B7-701B-48B7-95E5-7B090C6B01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