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72709"/>
        <c:axId val="52146041"/>
      </c:barChart>
      <c:catAx>
        <c:axId val="96772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46041"/>
        <c:crosses val="autoZero"/>
        <c:auto val="1"/>
        <c:lblAlgn val="ctr"/>
        <c:lblOffset val="100"/>
        <c:noMultiLvlLbl val="0"/>
      </c:catAx>
      <c:valAx>
        <c:axId val="52146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72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F6E-2D53-49E3-AD79-BDD6B42E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09D-4B09-45EF-9907-64731D4E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0B7-67F2-41F7-9993-D65734AB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E62-8F40-4464-829D-8657F44D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81D-CA5C-437A-BC9D-A6E1D85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1D3-A23D-4FC8-8FE2-691F75B9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C77-002F-4B50-8546-03AC3088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CDC-9F4E-45FC-974A-DA044168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443-8F8A-4CBD-8F99-40305039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55B-56FB-4D9F-8B6B-BB7FC15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013-A953-40B3-A0AA-308E7C3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CA7-C0F0-41E8-829E-FCCC60FB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59DFE-086A-493A-BE29-2D03D883FA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