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27560"/>
        <c:axId val="18887297"/>
      </c:barChart>
      <c:catAx>
        <c:axId val="62527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7297"/>
        <c:crosses val="autoZero"/>
        <c:auto val="1"/>
        <c:lblAlgn val="ctr"/>
        <c:lblOffset val="100"/>
        <c:noMultiLvlLbl val="0"/>
      </c:catAx>
      <c:valAx>
        <c:axId val="18887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7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ABE-0BAB-4DC2-9533-476590F5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FE9-44E1-482B-8176-CD72B196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2DF-7165-4AC7-B54F-9026B41F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48D-83A3-40C4-AA54-41121FF4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FA96-11C0-493D-B812-1F11D04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655-A1DB-4411-9ED8-6DAE31A7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8D1-32BD-49FF-8A72-4F2745CE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6B7-0E14-4198-BFF1-F693DE18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9FC-D579-405B-8A4C-8345947B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E7B-DDB9-4210-9340-87551A9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4B2-FF64-4EEF-A2A6-8D0BAFF4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598-B950-4021-8BD1-D30BD5D7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521E0-07DB-427E-A6FB-B306E30F0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