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94117"/>
        <c:axId val="83568966"/>
      </c:barChart>
      <c:catAx>
        <c:axId val="964941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68966"/>
        <c:crosses val="autoZero"/>
        <c:auto val="1"/>
        <c:lblAlgn val="ctr"/>
        <c:lblOffset val="100"/>
        <c:noMultiLvlLbl val="0"/>
      </c:catAx>
      <c:valAx>
        <c:axId val="83568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941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192E-6459-430A-BEB9-57C3E259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34C-715C-4086-9862-7A870E01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355E-516B-4D5F-952B-0BB89D75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57F-95F2-4377-9028-0C5907C5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847C-AE5E-4C23-8471-191B8C89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EBD-D51A-4844-BE65-46213D1D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0DE8-F1D8-4690-92C6-E5FF62F9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13FB-9A11-4B83-965B-B4A967E3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DF2-3D99-4A37-9D41-7F0A796E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C50-3264-4EB1-8424-66CDEE2B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A34-5C36-4098-B60F-9A073FEC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10D8-3594-4553-9A22-5B5EE7DF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85336-A295-49EB-9A22-4EECA9F8E9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