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1733"/>
        <c:axId val="37981870"/>
      </c:barChart>
      <c:catAx>
        <c:axId val="85581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1870"/>
        <c:crosses val="autoZero"/>
        <c:auto val="1"/>
        <c:lblAlgn val="ctr"/>
        <c:lblOffset val="100"/>
        <c:noMultiLvlLbl val="0"/>
      </c:catAx>
      <c:valAx>
        <c:axId val="37981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1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736-06AA-45B3-8CDD-37629D56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53F-70E9-4273-AAAD-56687F0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8B4-F458-4E97-BEF6-FBE10F26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E67-56FB-48A3-9B7F-EC768BDE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306-0282-4FA2-9200-7EFFD57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05A-6B0B-4E7F-AEBC-79A4D19A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B74-95A4-43F7-BBC8-3FB0CB2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36B-0E61-4132-BAA6-D56589C7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2D5-2FF9-4E3C-A09C-5EEB374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602-188C-436D-AAA3-BCD6E6DB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3CD-E070-436F-80E1-76C3476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74D-FB64-4EB6-9346-F446E04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180BE-5ADA-4475-B004-386911DF1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