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0302"/>
        <c:axId val="92044306"/>
      </c:barChart>
      <c:catAx>
        <c:axId val="4660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44306"/>
        <c:crosses val="autoZero"/>
        <c:auto val="1"/>
        <c:lblAlgn val="ctr"/>
        <c:lblOffset val="100"/>
        <c:noMultiLvlLbl val="0"/>
      </c:catAx>
      <c:valAx>
        <c:axId val="92044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0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49A-3752-43C3-8A06-FA878C66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EF7-460F-4EC6-B69B-E1B74DE0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0F5-7E4A-412F-8BAA-BC52E383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861-689F-4FD6-A719-9879C3F3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04A-965C-4830-B98C-9FCAC728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FB8-6AAD-477D-91A5-7F58126A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845-EED2-4788-AF25-C599D2CE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54E-D260-439C-BF74-E16C33EE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80E-41C9-4230-A5E8-46D8AB83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D1D-DDF6-48B5-92F0-5FDF74FD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75D-066B-4441-A78D-1E87225E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022-F8BB-4A3C-8AB4-BB6BDE96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D5545-DCF8-4C9F-AA4A-D90E014E99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