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32539"/>
        <c:axId val="5250876"/>
      </c:barChart>
      <c:catAx>
        <c:axId val="98032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0876"/>
        <c:crosses val="autoZero"/>
        <c:auto val="1"/>
        <c:lblAlgn val="ctr"/>
        <c:lblOffset val="100"/>
        <c:noMultiLvlLbl val="0"/>
      </c:catAx>
      <c:valAx>
        <c:axId val="5250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32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F05-291E-4FC7-A368-E994279F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B897-6AAE-4466-9B64-25B492A5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654A-8D14-4FBD-A4A5-625ADAED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757-CB0E-4A39-8E31-D36D0D98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6DD-4D9F-4D1B-8D70-E22A96C2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DF9-3AE4-4D54-A0D0-596B3373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C53-03FA-4DB1-92F4-D7714ED5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169C-6900-43C7-B546-973E2C00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E3D-9E8C-40DF-BCE4-75E31A2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EEA-D825-49E6-B974-FE7146A7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DC7-3A44-4AD6-89E6-E4642CAA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419-703B-42E0-BD0A-24F6282A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F852A-86D8-4F32-A6A3-E5A2A3326B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