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79504"/>
        <c:axId val="13880457"/>
      </c:barChart>
      <c:catAx>
        <c:axId val="27179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80457"/>
        <c:crosses val="autoZero"/>
        <c:auto val="1"/>
        <c:lblAlgn val="ctr"/>
        <c:lblOffset val="100"/>
        <c:noMultiLvlLbl val="0"/>
      </c:catAx>
      <c:valAx>
        <c:axId val="13880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79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126-6F67-43EF-9C52-E0F5C5E7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5D6-C1AA-4F46-81E0-7226BC9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28F-FBCA-4F74-97C2-F653D001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E7D-8F0A-43FC-97C0-3A5B7EF3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0E3-128D-4CCF-905E-E66009A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537-2898-4919-9794-DA063AE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020-953D-4987-BA3C-B0ACA6F7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4CC-7F70-4089-892B-3792C35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95E-B257-411D-B42A-0D28ABFC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736-BDA8-4E0F-BEBD-F2EE630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CDB-98BA-497B-9F2E-CD9D8D7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E33-D493-4868-BABA-26EE3C1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C0F01-9E19-439F-9B43-9EA714865B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