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605858"/>
        <c:axId val="12406199"/>
      </c:barChart>
      <c:catAx>
        <c:axId val="460585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406199"/>
        <c:crosses val="autoZero"/>
        <c:auto val="1"/>
        <c:lblAlgn val="ctr"/>
        <c:lblOffset val="100"/>
        <c:noMultiLvlLbl val="0"/>
      </c:catAx>
      <c:valAx>
        <c:axId val="1240619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0585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52299-E73E-4902-92B1-7E94EAC70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5FDF3-3B69-4484-BE07-66195C3CA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E1FEF-894F-4368-8956-DA33DB9D6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C10DD-E5BF-48D6-A9AD-85E85EE86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89C11-F083-44CD-ACD9-9F2BB943D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35837-4BFB-4E46-94B7-A038058CA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2679E-C96E-4225-B993-8EFA083A8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C9F16-5721-440C-8755-1264DABA3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2C6B6-6D4A-4ABE-BF4C-685988111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BD184-0652-4DD4-9010-64DD4F71D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B3AE7-A78B-439A-9D9C-0206A503A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FF7F0-1E10-47F1-8B84-CA4E0C564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1D75EB-283D-4437-B048-71F6A55CBED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