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902"/>
        <c:axId val="56749890"/>
      </c:barChart>
      <c:catAx>
        <c:axId val="53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49890"/>
        <c:crosses val="autoZero"/>
        <c:auto val="1"/>
        <c:lblAlgn val="ctr"/>
        <c:lblOffset val="100"/>
        <c:noMultiLvlLbl val="0"/>
      </c:catAx>
      <c:valAx>
        <c:axId val="56749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2CA-E8D6-485A-AE55-B673D85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5C4-055B-4B98-A0FC-645224EB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04C-FB23-4DA5-9EA4-D6BEB6DA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CCE-59B1-4258-A6A3-29FED5E2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29E-AE6B-47DD-908C-9FFF353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6C4-828C-4DD6-8929-4D1702B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27A-0F1B-4BE3-AA87-D9E7EDC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FD2-1947-4F44-8729-79BED90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8DB-4E19-4BD6-B034-15F02ED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363-9B95-4D54-9373-A738C9A6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8E6-DC68-4ABA-A82D-70D363C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2D2-F984-459C-928B-9DA7C0B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20FD-7B01-46B4-BC16-8A94063E0F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