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23590"/>
        <c:axId val="49476292"/>
      </c:barChart>
      <c:catAx>
        <c:axId val="29523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76292"/>
        <c:crosses val="autoZero"/>
        <c:auto val="1"/>
        <c:lblAlgn val="ctr"/>
        <c:lblOffset val="100"/>
        <c:noMultiLvlLbl val="0"/>
      </c:catAx>
      <c:valAx>
        <c:axId val="49476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23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A23-2244-464B-80C7-C0DF8314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F4F-2B15-4999-96EA-D43CD934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018-493E-4218-A99E-5D4381A7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369-CA22-43B1-B5A0-212BF31B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12B-4E09-45DC-88D9-1ED3F9F5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DA8-FCE4-4AAA-BC3E-157E22F4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84B-13DF-4CF1-8EBB-43E2EA99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CA4-44B6-4509-987C-0F0FA352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001-1B8B-40F7-B9B2-A6A76EB2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343-C00D-426A-883F-1CD78BFB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401-3C1F-4EC9-BB55-22F11530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9D8-497A-4C89-894C-BE9498B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56E09-ED6E-4A45-9D72-2A1D07BE76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