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87817"/>
        <c:axId val="55518465"/>
      </c:barChart>
      <c:catAx>
        <c:axId val="65287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18465"/>
        <c:crosses val="autoZero"/>
        <c:auto val="1"/>
        <c:lblAlgn val="ctr"/>
        <c:lblOffset val="100"/>
        <c:noMultiLvlLbl val="0"/>
      </c:catAx>
      <c:valAx>
        <c:axId val="55518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87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0EB-B7F5-48ED-919A-DDCAB03C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DF2-E919-4251-B3A9-A2E6DD44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CB7-3264-4B48-8EC8-5857FC3A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920-416F-4E94-ADBD-8D38EE45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515-CA48-4FCB-BF7E-9FAF2B78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1E8-113B-4DFE-94FC-3073C9D0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DD1-34DD-445C-A71B-75206B56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950-E9FA-4EEA-878C-B98E520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B0A-037A-4267-81FA-6902995C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67B-CC0A-4DFB-BBDA-25B29D4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218-23A4-4194-A0C5-15142A44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C29-E487-4A08-9C92-FB00C86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491C4-AAC9-4FAE-B511-E9A898F42B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