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01130"/>
        <c:axId val="64882692"/>
      </c:barChart>
      <c:catAx>
        <c:axId val="49501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82692"/>
        <c:crosses val="autoZero"/>
        <c:auto val="1"/>
        <c:lblAlgn val="ctr"/>
        <c:lblOffset val="100"/>
        <c:noMultiLvlLbl val="0"/>
      </c:catAx>
      <c:valAx>
        <c:axId val="64882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01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745-F011-4D46-996B-9CF02B24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95F-E49B-4922-A3E2-B174896B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99A-D3C6-45A2-A41C-D076A5A1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25C-F513-4F1E-94CC-65E9DEC0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1FB-F307-4EAD-A6A6-B75BF158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59D-25CD-4157-AB99-D966AA47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317-4BE1-449F-A6F7-A5888356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29B-88FD-4130-9672-E5BC8C91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DEC-2F7A-46B4-B520-B2EE0C5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E76-DA5A-45B6-8637-C4365A2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8EA-4617-429F-B7AA-E04F5D6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F6A-89AE-41D7-88AB-B096AEA3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5CA1A-2A66-42AF-8A22-CF11EFEF89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