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58605"/>
        <c:axId val="546188"/>
      </c:barChart>
      <c:catAx>
        <c:axId val="987586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88"/>
        <c:crosses val="autoZero"/>
        <c:auto val="1"/>
        <c:lblAlgn val="ctr"/>
        <c:lblOffset val="100"/>
        <c:noMultiLvlLbl val="0"/>
      </c:catAx>
      <c:valAx>
        <c:axId val="546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86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2CA-468D-44CB-96ED-D1E3DA5E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0F0-22E7-4A53-8FC6-0A5CF2E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103-0B81-42F7-8E1D-44961037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6AC-2FFB-4792-817C-4593E9B7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4C6-944C-402C-8A31-AC6BF2CE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48F-2240-497A-9464-C052F3A0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758-815C-42F9-A934-5F04540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479-2A42-4AB2-8AEB-4DDA23E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2A2-B5E2-4152-8D54-3649D4E3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3FB-D57D-489A-976F-190AE66B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924-F122-4C7B-9DA8-04F0BF93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7FF-0FC8-4863-9496-B5B02D9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1CEB-FAC9-4A63-815D-30FC7566E6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