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420353"/>
        <c:axId val="54337707"/>
      </c:barChart>
      <c:catAx>
        <c:axId val="224203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337707"/>
        <c:crosses val="autoZero"/>
        <c:auto val="1"/>
        <c:lblAlgn val="ctr"/>
        <c:lblOffset val="100"/>
        <c:noMultiLvlLbl val="0"/>
      </c:catAx>
      <c:valAx>
        <c:axId val="543377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4203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EE6E-0F53-46F7-808F-5C2DFFCB4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466E-BE25-401E-84D6-09532C38D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7CA6-4242-4717-997F-187C16837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5ABB-7EEB-4E5A-B4DC-374036E4E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1DF2-DE6A-46E0-8C72-668A0BCAD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8DAF-A800-4563-98FD-DAA77C108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5D67-D18D-4307-BB1E-6D919D7E3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A3A5-C159-4C85-B576-02B20BB76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5DB5-14CC-4645-A77E-D024B959F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A2A0-7D87-4085-84A9-920C8216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CE04-4554-4BE1-9A25-F833056E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8D14-CE44-46BC-ADEF-207640F9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CACCBE-6ECC-4C18-96A2-3D7358656D9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