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10863"/>
        <c:axId val="47109474"/>
      </c:barChart>
      <c:catAx>
        <c:axId val="66410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09474"/>
        <c:crosses val="autoZero"/>
        <c:auto val="1"/>
        <c:lblAlgn val="ctr"/>
        <c:lblOffset val="100"/>
        <c:noMultiLvlLbl val="0"/>
      </c:catAx>
      <c:valAx>
        <c:axId val="47109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0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144-0220-49CA-BA32-0EACA1F2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5AB-63D4-433B-BB15-7FCED11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1E4-FD0A-4C5E-AAF7-C9ECFB21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456-44E4-4CE7-8DFC-418BBDE1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C2C-58FD-4293-8E99-1E009F57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FA8-35E2-4EAA-B265-1007628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D8F-1219-4870-BE4D-5C6792E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F44-952D-4C7B-9AE8-F14ABE5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E03-BFE5-4989-B020-C9670D2A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1B4-E454-4BA3-A9F6-AB481EF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BA-2247-495E-9B1B-21F0C404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EB3-516B-4309-A8BE-046C5EA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97DB-A49F-438B-9EF1-C4D188465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