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27353"/>
        <c:axId val="15636341"/>
      </c:barChart>
      <c:catAx>
        <c:axId val="21127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6341"/>
        <c:crosses val="autoZero"/>
        <c:auto val="1"/>
        <c:lblAlgn val="ctr"/>
        <c:lblOffset val="100"/>
        <c:noMultiLvlLbl val="0"/>
      </c:catAx>
      <c:valAx>
        <c:axId val="15636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27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369-7BC2-4558-8AB2-FA8B3C67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427-A865-420B-862D-1F9C9A1B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691-1AD7-4F2B-95B9-324F55C8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D40-764D-4449-AC17-ED5F8B0B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7A4-B544-4F1A-AA7F-93F503D7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2F2-41E1-4E65-9D57-1CE1D58A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8D1-E49D-484A-8EEF-BFA43EDD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FC0-C644-48A1-99AE-40D15AA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84E-FCD8-48B4-B112-1D99BA24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C79-ECCA-4115-8C5E-46EAE6A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AC3-02A0-406D-A8AC-108EB355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11A-BDE3-4891-B5BA-1950043F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BF06B-30E9-4E6B-B207-C3BBF09AF6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