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44152"/>
        <c:axId val="72339976"/>
      </c:barChart>
      <c:catAx>
        <c:axId val="822441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39976"/>
        <c:crosses val="autoZero"/>
        <c:auto val="1"/>
        <c:lblAlgn val="ctr"/>
        <c:lblOffset val="100"/>
        <c:noMultiLvlLbl val="0"/>
      </c:catAx>
      <c:valAx>
        <c:axId val="723399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441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A87-108A-4F03-8320-3C328357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00E-0B90-4A91-92C7-3B56E50A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7E7-CF3A-44E1-A199-B6FFB108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EAC2-0454-4BDC-B6F9-39DAB75F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702-4180-4F75-A4EB-66682B36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A05-0BD2-494A-9FB8-F2E8707E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370-E303-4CBA-BA52-F1DEB5B4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ECF-AFA5-4552-995E-1E203B30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34D-53B3-44C0-8151-748E3B24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599-C2D0-4838-8A2D-F8CF8FF4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798-64DE-4E0B-840D-75DB29AC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368-F879-4CB6-B8E5-5DBF6B96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B51F8-8CDD-4DF5-862C-A027ECA5C9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