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82038"/>
        <c:axId val="82108033"/>
      </c:barChart>
      <c:catAx>
        <c:axId val="41682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08033"/>
        <c:crosses val="autoZero"/>
        <c:auto val="1"/>
        <c:lblAlgn val="ctr"/>
        <c:lblOffset val="100"/>
        <c:noMultiLvlLbl val="0"/>
      </c:catAx>
      <c:valAx>
        <c:axId val="82108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82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ADE-62B4-453B-BF11-8CA9D157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3D2-EA5A-4D86-8ED7-9758E258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649-DB20-434D-AA14-06271BA7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8B51-0103-4D70-BE53-E3CA92FA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11CC-99A4-43A9-9CFF-CEF17F36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DFF5-7F51-40E5-9FD4-AB068743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A05-1922-4E65-8770-66E57343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8021-6F30-4F9D-A7D5-2DC347A3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1E7-8277-4E97-91D8-31AF76CF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114-BD8C-4A81-BB22-796E7707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4FC-660B-4E4D-B2D3-A182E4A1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64BD-9753-4D0F-AB65-1C946E47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A14B2-1C24-40E7-AF0A-D9615B294F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