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69444"/>
        <c:axId val="91422840"/>
      </c:barChart>
      <c:catAx>
        <c:axId val="33969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22840"/>
        <c:crosses val="autoZero"/>
        <c:auto val="1"/>
        <c:lblAlgn val="ctr"/>
        <c:lblOffset val="100"/>
        <c:noMultiLvlLbl val="0"/>
      </c:catAx>
      <c:valAx>
        <c:axId val="91422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69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335-A0DC-4C2E-805C-25694334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B25-40A7-49F0-B650-DD53530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107-B1F5-41DA-9FAB-7472727C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E05-71B6-4E62-A811-A1AC8BDC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698-4BF4-48BF-9E3B-D4592D70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C52-AE5A-42BC-90DA-C9616C3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07C-3D31-45CA-8C9E-7100309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EFF-DFA5-437E-A85A-ED4BFD4B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C68-F6FB-423F-AE8A-2DDD62B6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097-4777-402A-B530-3D675AA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ED4-D776-479C-AFAA-74999AD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274-E2E4-4FBD-B528-D63573C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23B9B-5969-4B18-9E28-0F4FE3A99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