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31764"/>
        <c:axId val="91816936"/>
      </c:barChart>
      <c:catAx>
        <c:axId val="25031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16936"/>
        <c:crosses val="autoZero"/>
        <c:auto val="1"/>
        <c:lblAlgn val="ctr"/>
        <c:lblOffset val="100"/>
        <c:noMultiLvlLbl val="0"/>
      </c:catAx>
      <c:valAx>
        <c:axId val="91816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31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E99-DA9E-4042-89E0-E0E6A159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4D7-1667-4933-B7AF-650F5B9A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73B-DD27-46FA-AC98-1DCE8B27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6E3-90BA-4E6B-9046-DBFD3804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E27-BC69-477C-9713-8620CFE7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5CC-D84E-43C1-A8CC-3EE3DBC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27D-1E0E-4E51-9AC8-F8D6883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CE7-7120-4317-85B4-A485AF3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7D7-25F0-408E-8F59-8A22916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4CB-3427-4907-92A2-3305CCA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590-F4FD-424B-B126-3C24AF9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206-9082-40BA-8168-ACFD8A8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8809E-24AC-46A7-80B4-54E50F7DC9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