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37574"/>
        <c:axId val="40011676"/>
      </c:barChart>
      <c:catAx>
        <c:axId val="22837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11676"/>
        <c:crosses val="autoZero"/>
        <c:auto val="1"/>
        <c:lblAlgn val="ctr"/>
        <c:lblOffset val="100"/>
        <c:noMultiLvlLbl val="0"/>
      </c:catAx>
      <c:valAx>
        <c:axId val="40011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37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2B77-5945-4531-BB1C-F7D213DD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B5B1-6344-4593-A792-6B554E1F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14A-8660-43ED-9AA0-2C67BDC5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24C7-AF1D-4AF7-BF46-2AA70FE5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4A94-CA1A-4346-84F0-69AC5F9C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1EC-12AA-41BA-B349-9BD08870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69D-D505-4EB9-B562-3789F907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3C17-8115-4F25-99AA-428E628F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414E-7AE1-4684-AF78-487E16DC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7AD9-BA4E-4FD4-82E7-51F092D8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0467-3900-4B4E-ABAD-932E7CC2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9AD4-D649-470A-907E-6AB5CC88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171D4-9043-4946-9CE1-9900F7EC15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