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95136"/>
        <c:axId val="40780194"/>
      </c:barChart>
      <c:catAx>
        <c:axId val="27951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80194"/>
        <c:crosses val="autoZero"/>
        <c:auto val="1"/>
        <c:lblAlgn val="ctr"/>
        <c:lblOffset val="100"/>
        <c:noMultiLvlLbl val="0"/>
      </c:catAx>
      <c:valAx>
        <c:axId val="407801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51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F66C-1D6E-453A-AEA8-75BDDED70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4511-C9FF-4C95-A76E-750D2035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8C58-2BC8-4FE8-AF80-8F3FC4FC5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C61F-59EC-4699-A4BC-898BE9C5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842B-F809-43EB-A013-B0698E84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3A2F-8C9E-479C-9CF3-43BE8051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6645-C387-4AA9-8766-F2D75564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8D29-73B5-4332-B25E-4FF70D0C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2836-BE09-4383-9C3F-745D4514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83D2-5790-4EAD-95F4-86C127A2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6294-CE2D-49CE-8B3E-D661C119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0C21-B975-4E93-AC78-0DEFFB0E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0F986-5B21-40F5-932D-A806E9AF84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