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83098"/>
        <c:axId val="6684485"/>
      </c:barChart>
      <c:catAx>
        <c:axId val="82783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4485"/>
        <c:crosses val="autoZero"/>
        <c:auto val="1"/>
        <c:lblAlgn val="ctr"/>
        <c:lblOffset val="100"/>
        <c:noMultiLvlLbl val="0"/>
      </c:catAx>
      <c:valAx>
        <c:axId val="6684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83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980-926A-43FB-AB6B-D08F15EE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C6D-98B6-4DB7-B723-C293602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B21-B756-4CF0-AF97-C42F6398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AAF-36D7-4560-8D27-62491FDB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60D-999E-47BD-A8DA-F8BD1547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517-14D5-4694-B56A-FFC624D5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AB5-F93D-4520-B059-EFFAC27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53A-E9FE-4CBE-942B-5D99CD6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813-1CA6-4D25-AADD-C1B2CC7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188-918E-4C84-889A-BBF16C3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1AA-B705-47A1-BDD7-587A211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A13-1B9B-4007-B469-899442B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81454-58A4-49C1-98D6-623D18A36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