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67607"/>
        <c:axId val="98314978"/>
      </c:barChart>
      <c:catAx>
        <c:axId val="11567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14978"/>
        <c:crosses val="autoZero"/>
        <c:auto val="1"/>
        <c:lblAlgn val="ctr"/>
        <c:lblOffset val="100"/>
        <c:noMultiLvlLbl val="0"/>
      </c:catAx>
      <c:valAx>
        <c:axId val="98314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7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805-AE10-41CE-BBAD-88B27A77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1FF-F3F3-4BC8-B4A5-CF23E404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DD9-2A33-479B-AA15-9A0F7B30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038-0218-487A-BD94-C6B0F84F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C09-99D1-427F-A430-9F68B071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D7C-9BA7-4AA0-83B8-2E833842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223-181C-4FF9-903A-E3001EDC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DFE-EA4A-4AC1-960C-C0444E8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6FE-E2CE-491E-B3DC-038159E7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FF7-52B6-4A63-8152-9C2727CB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CF7-D7FB-4610-A18F-CE447EBA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0FE-50F4-4B0D-9BE4-4F90AC8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5E4E9-5016-4344-BBE4-8C8E6BEFCF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