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67722"/>
        <c:axId val="90963583"/>
      </c:barChart>
      <c:catAx>
        <c:axId val="62767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63583"/>
        <c:crosses val="autoZero"/>
        <c:auto val="1"/>
        <c:lblAlgn val="ctr"/>
        <c:lblOffset val="100"/>
        <c:noMultiLvlLbl val="0"/>
      </c:catAx>
      <c:valAx>
        <c:axId val="909635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67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280-C9C9-4DFE-B02C-9F67C5AD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71CB-D3E1-41ED-BF3E-DC889F6C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8251-4100-4A18-8EEC-8DD5E97C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530-1BA5-4F9D-BD19-E6F7CE2A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AB61-4368-4507-93C4-F9EFF2CD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98AB-C0EA-499F-AA99-C6CC787B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19AE-9294-4398-884D-E2A6011A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F917-0533-496E-85F6-9A31B5C1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D00-D7DD-4D34-83BB-D6DF01CD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4FC-1760-41F0-ACCD-2AFA3BB0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2D5-E42F-4596-8F99-059E9A27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7EC4-6FF7-4F63-A37C-EF5AC93F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4909E-1C33-4CB4-A470-4AE146CF32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