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93423"/>
        <c:axId val="14616696"/>
      </c:barChart>
      <c:catAx>
        <c:axId val="84793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16696"/>
        <c:crosses val="autoZero"/>
        <c:auto val="1"/>
        <c:lblAlgn val="ctr"/>
        <c:lblOffset val="100"/>
        <c:noMultiLvlLbl val="0"/>
      </c:catAx>
      <c:valAx>
        <c:axId val="14616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93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DC2-4025-4CBB-9ABE-191329CA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131-83B4-4E26-A603-B59A0FC2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296-0EAF-4908-9B62-AA122702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A33-766E-46A2-A0C7-BA3AD983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F0F-BF12-4A7C-8F4A-EFCA230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E8D-B978-4EF4-8F64-49D7B576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752-3F10-48AF-9355-96B5DD07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187-B043-48E0-851E-3AED899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667-D0EE-41E1-8D92-EB01CDB2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40E-E37E-42DA-ACFC-250C1B8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7A8-C57D-4BA0-9033-541DDFF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560-E337-4D78-818F-5A2D622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3DAFB-892A-4C80-9FAE-FFFDABCA2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