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666223"/>
        <c:axId val="96763204"/>
      </c:barChart>
      <c:catAx>
        <c:axId val="986662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3204"/>
        <c:crosses val="autoZero"/>
        <c:auto val="1"/>
        <c:lblAlgn val="ctr"/>
        <c:lblOffset val="100"/>
        <c:noMultiLvlLbl val="0"/>
      </c:catAx>
      <c:valAx>
        <c:axId val="967632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6662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DCB-B54F-4E4B-98A0-0CF2D5E3A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6CFB-92C6-422A-AE89-8596A2097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74FE-FBD3-40C2-9FFE-B3F7B6DA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2D3E-D000-4A0C-A7FB-2C59B1DA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E72D-BEF8-423B-A101-257ACABAB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73F0-7049-43C6-AF86-668482938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EB37-88D1-4179-958B-D89632683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D8B-9AA7-41C0-A1CF-9291127AF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0D8C-30F7-4D62-A012-C09AD6C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9644-450D-428B-8F12-747220F61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B24A-6A19-435F-9A1A-860A4615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EFE-387D-4184-BF83-418933600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5A79C-F7AA-42A6-B65B-FDDD4DCC2D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