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C719A8-DB64-4AB3-A369-09FE8FDA99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C44CAC-064A-44D8-B05D-A832E4F02E2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024917-783E-4591-BBD4-24CD41F7EA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A8C3AA-554B-4D75-9A8E-5715AFF2543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8D3871-493E-4112-89E3-F3970C919E5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F19015-6602-4792-8EA5-4EE2A54DC51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A1FF49-C2C6-4243-B70A-D1D8FE2EBE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FDFB27-B6B6-4101-9350-3B3A07A51C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225C0B-917D-4D37-95D6-54D48201E3D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821267-7D84-44F5-BD55-337C201851D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D35013-C6F9-4209-BAD4-B8DEE810E23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740376-979A-44AE-8159-1BB79EF304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C7EA1-5F03-4896-B9E8-3C1B9A30FB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905120" y="2041560"/>
            <a:ext cx="380880" cy="609120"/>
            <a:chOff x="1905120" y="2041560"/>
            <a:chExt cx="380880" cy="609120"/>
          </a:xfrm>
        </p:grpSpPr>
        <p:sp>
          <p:nvSpPr>
            <p:cNvPr id="41" name=""/>
            <p:cNvSpPr/>
            <p:nvPr/>
          </p:nvSpPr>
          <p:spPr>
            <a:xfrm>
              <a:off x="2000160" y="204156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2095560" y="221544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952640" y="24768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095560" y="24768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905120" y="23461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3048120" y="188928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196524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689440" y="2041560"/>
            <a:ext cx="358920" cy="7221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5051520" y="2041560"/>
            <a:ext cx="358560" cy="722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419720" y="23464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62320" y="2346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048120" y="274176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915080" y="2727360"/>
            <a:ext cx="609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 (public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524560" y="271476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5051520" y="4175280"/>
            <a:ext cx="358560" cy="722160"/>
          </a:xfrm>
          <a:prstGeom prst="rect">
            <a:avLst/>
          </a:prstGeom>
          <a:ln w="0">
            <a:noFill/>
          </a:ln>
        </p:spPr>
      </p:pic>
      <p:grpSp>
        <p:nvGrpSpPr>
          <p:cNvPr id="56" name=""/>
          <p:cNvGrpSpPr/>
          <p:nvPr/>
        </p:nvGrpSpPr>
        <p:grpSpPr>
          <a:xfrm>
            <a:off x="1927080" y="4214880"/>
            <a:ext cx="381240" cy="609120"/>
            <a:chOff x="1927080" y="4214880"/>
            <a:chExt cx="381240" cy="609120"/>
          </a:xfrm>
        </p:grpSpPr>
        <p:sp>
          <p:nvSpPr>
            <p:cNvPr id="57" name=""/>
            <p:cNvSpPr/>
            <p:nvPr/>
          </p:nvSpPr>
          <p:spPr>
            <a:xfrm>
              <a:off x="2022480" y="421488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117520" y="438876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 flipH="1">
              <a:off x="1974240" y="465012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117520" y="465012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927080" y="451944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3070080" y="402264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124080" y="409896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5689440" y="417528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3556080" y="479916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432320" y="4479840"/>
            <a:ext cx="596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349360" y="4479840"/>
            <a:ext cx="7239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073320" y="48751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7680" y="4848120"/>
            <a:ext cx="609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 (public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537160" y="485136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556080" y="266544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30120" y="54756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y Gen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486400" y="1905120"/>
            <a:ext cx="762120" cy="1371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486400" y="4038480"/>
            <a:ext cx="762120" cy="1371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934320" y="3355920"/>
            <a:ext cx="175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ore safely and at different loc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6248520" y="2743200"/>
            <a:ext cx="1434960" cy="63504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6248520" y="3772080"/>
            <a:ext cx="1434960" cy="87624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35Z</dcterms:modified>
  <cp:revision>154</cp:revision>
  <dc:subject/>
  <dc:title>Slide 1</dc:title>
</cp:coreProperties>
</file>