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9DB9D-9843-42E7-881A-908211307C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many other metrics available on the Hibernate statistics MBean. This is only recording one piece of inforrmation, the EntityInsertCou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vailability metric is required to define a service, since Hibernate doesn’t have an availability setting, I used the deployer’s status like some other services d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total, updated hq-plugin.xml for the JBoss Plugin is below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name="jboss" class="JBossProductPlugin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lasspath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jnp-cli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jboss-common-cli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jboss-jsr77-cli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jbossall-cli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log4j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jmx-rmi-connector-cli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lib/jboss-system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lib/jboss-jmx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server/default/lib/jboss-managem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server/minimal/lib/jboss-managem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server/all/lib/jboss-managem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lib/jboss-managem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lib/dom4j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lasspath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-- appended to each template by MeasurementInfoXML -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roperty name="template-config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ava.naming.provider.url=%java.naming.provider.url%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TxManager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:service=TransactionManage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JMSMessageCach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.mq:service=MessageCache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EJ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.management.local:name=%ejb.name%,J2EEServer=Local,J2EEApplication=%j2ee.application%,EJBModule=%ejb.jar%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EJBServic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.j2ee:jndiName=%ejb.name%,service=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EJBPool" value="${EJBService},plugin=pool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EJBCache" value="${EJBService},plugin=cache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-- ObjectName properties used in the control plugins -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roperty name="JMSQue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.mq.destination:service=Queue,name=%jms.destination%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roperty name="JCAConnectionPo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.jca:service=ManagedConnectionPool,name=%jca.connpool%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Hibernate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Entity Insert 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EntityInsert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Hibernate:type=statistics:EntityInsert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THROUGHPU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service=MainDeployer:StateString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service=MainDeployer:StateString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-- ServerInfo metrics -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ctive Thread 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ctiveThrea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type=ServerInfo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THROUGHPU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ctive Thread Group 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ctiveThreadGroup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type=ServerInfo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THROUGHPU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VM Free 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Free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type=ServerInfo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VM Total 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Total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type=ServerInfo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VM Max 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ax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type=ServerInfo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stat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-- transaction manager -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Transactions Activ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Tx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TxManager}:Transaction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Transactions Committed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TxCommit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TxManager}:Commit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Transactions Rolledback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TxRollback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TxManager}:Rollback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TotalCache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Hit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acheHit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THROUGHPU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Misse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acheMisse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THROUGHPU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Current Memory Us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urrentMemoryUs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High Memory Mark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HighMemoryMark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stat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Max Memory Mark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axMemoryMark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stat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JMS Destination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Queue}:StateString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essages in Que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QueueDepth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Queu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ceivers 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Receivers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Queu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JCA Connection Pool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in Connectio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in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stat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ax Connectio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ax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stat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Total Connectio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onnection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le Connectio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leConnection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onnections Created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onnectionCreate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onnections Destroyed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onnectionDestroye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StateString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Stateless Sessio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reat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Creat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less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mov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Remov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less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ethod-Ready Bea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MethodReady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less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Pool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urrent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axPool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ax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lessSessionBean:StateManageabl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Stateful Sessio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reat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Creat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ful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mov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Remov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ful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ethod-Ready Bea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MethodReady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ful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Passive Bea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Passiv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ful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fulSessionBean:StateManageabl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Entity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reat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Creat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Entity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mov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Remov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Entity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ady Bea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Ready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Entity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Pooled Bea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Poole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Entity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ache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ache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Passivate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Passivate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Pool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urrent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axPool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ax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EntityBean:StateManageabl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Message Drive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reat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Creat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MessageDrive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mov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Remov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MessageDrive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essages Received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Messag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MessageDrive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MessageDrivenBean:StateManageabl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-- note that the templates are not exactly the sa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boss 4.0 changed the case of some attribute name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JBoss4MeasurementPlugin.translate method makes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djustments.  -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" include="JBoss 3.2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JMS Destin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JMS Destinatio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JCA Connection Po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JCA Connection Pool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Stateless Session EJ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Stateless Session 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Stateful Session EJ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Stateful Session 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Entity EJ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Entity 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Message Driven EJ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Message Driven 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help name="header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[CDATA[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b&gt;jboss.installpath&lt;/b&gt; must be configured in agent.propertie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 example:&lt;p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re&gt;   jboss.installpath=]]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help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help name="footer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[CDATA[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pr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]]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help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 name="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ejb.nam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EJB Nam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ejb.jar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EJB Module (JAR)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j2ee.applic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J2EE Applic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er name="JBos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ersion="3.2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Application Server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latforms="Unix,Win32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java.naming.provider.ur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Naming Provider UR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jnp://localhost:1099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measureme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MeasurementPlugi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autoinvent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Detecto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contr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ServerControlPlugi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actions include="stop,start,restart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can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/**/server/*/conf/jboss-service.xml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can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Stateless Sessio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 include="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Stateful Sessio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 include="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Entity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 include="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Message Drive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 include="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Hibernate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Hibernate" description="Hibernate statistics" 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Hibernate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JMS Destination" internal="true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jms.destin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JMS Destin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contr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JMSControlPlugi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actions include="removeAllMessages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JCA Connection Pool" internal="true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jca.connpo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JCA Connection Po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contr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JCAControlPlugi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actions include="stop,start,restart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er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er name="JBos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ersion="4.0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3.2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measureme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4MeasurementPlugi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er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plugin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just the important 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375A432B-63EF-4836-8845-F03D72E7AB19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hibernate.org/216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lug-ins and the PDK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9320" y="3429000"/>
            <a:ext cx="7238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BossNetwork Enterprise 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Define the metric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lace the following in hq-plugin.xml with the metric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ooks for an MBean registered as “Hibernate:type=statistics” with a property of “EntityInsertCount”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&lt;metrics name="Hibernate"&gt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&lt;metric name="Entity Insert Count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alias="EntityInsertCount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template="Hibernate:type=statistics:EntityInsertCount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ategory="THROUGHPUT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defaultOn="tru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dicator="tru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units="non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ollectionType="dynamic"/&gt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&lt;metric name="Availability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alias="Availability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template="jboss.system:service=MainDeployer:StateString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ategory="AVAILABILITY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defaultOn="tru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dicator="tru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units="percentag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ollectionType="dynamic"/&gt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&lt;/metrics&gt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Define the servic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95080" y="117936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85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dd the service definition to the JBoss Server setup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service name="Hibernate"&g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metrics&g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include name="Hibernate"/&g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/metrics&g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/service&g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esul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42064" t="40602" r="17946" b="46088"/>
          <a:stretch/>
        </p:blipFill>
        <p:spPr>
          <a:xfrm>
            <a:off x="380880" y="4473720"/>
            <a:ext cx="8304480" cy="17748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595440" y="1185840"/>
            <a:ext cx="8001000" cy="20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352080" indent="-35208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nce deployed, the JBoss plug-in will be able to auto-inventory your Hibernate statistics MBe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0760" indent="-32724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 will see a new service type in the services drop-down of Hibern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0760" indent="-32724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Entity insert count will be recorded regularly as any other metri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lug-in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rough this system, any custom MBean deployment can be integrated into the EM platform to provide detailed metrics, customized control and availability information without new developm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rchitectu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lug-in typ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ustomiz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ibernate exampl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lug-ins are self-contained jar files deployed on both the server and agent sid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sist of implementations of the PDK (Plugin Development Kit)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n hq-plugin.xml descripto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erver use of Plug-i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server reads metadata from a plug-in to gather inventory structu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latforms, servers and servi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trics detail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Where to read from and what property to read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e type of data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figuration settings for a resour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trol operati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t use of Plug-i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agent executes the plug-in implementation of the following featur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asurement (metrics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uto Inventory and discover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sponse tim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lug-in typ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oduc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fines other plug-in types and their implementations in XML (hq-plugin.xml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lement MeasurementPlugin.getValue to retrieve metrics declared in product descripto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c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lement ControlPlugin.doAction to implement operation defined in product descripto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uto Inventor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lement ServerDetector.discoverServic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lug-in Descripto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XML section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asspath – what libraries are needed by the plug-i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ilter – variable replacement based on service nam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trics – defines groups of metrics that may be monitore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rver – defines a server resour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rvice – defines a service resour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plug-in featur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JBoss plug-in supports generic JMX access within a JBoss instan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ny numeric JMX property can be read and stored as a metric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ny JMX operation with no arguments can be called as an ac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n search running processes and the files system to auto-detect JBos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n only connect to homogenous JBoss versions from a single agent/plug-in instan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xtend the JBoss Plug-i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e will monitor the Hibernate statistics MBea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s an application using Hibernate that creates and registers the statistics features (</a:t>
            </a:r>
            <a:r>
              <a:rPr b="0" lang="en-US" sz="26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http://www.hibernate.org/216.html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s updating the jboss-plugin.jar in both the server and the agent deploymen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9T13:38:31Z</dcterms:created>
  <dc:creator>ghinkle</dc:creator>
  <dc:description/>
  <dc:language>en-US</dc:language>
  <cp:lastModifiedBy>ghinkle</cp:lastModifiedBy>
  <dcterms:modified xsi:type="dcterms:W3CDTF">2005-07-13T08:33:53Z</dcterms:modified>
  <cp:revision>45</cp:revision>
  <dc:subject/>
  <dc:title>JBN Enterprise Management</dc:title>
</cp:coreProperties>
</file>